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98636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A8A3E-E547-42B2-B61A-91D903114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4DF0-D245-4CCF-98B9-AE5C4E765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2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A767C-CF22-43A5-AB3A-A2C180695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6D7E6-2B16-431D-B0DC-42281A241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E31D3-E617-4188-A176-9678C98A6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9A91-1C0D-4303-87D1-3CC6AF91E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80FDC-70FF-423E-8E1F-C860A22E0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61D80-7223-4D10-9D02-9CCD88298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0F144-F335-411F-B282-392237A8E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53C1-EB55-48C4-A80A-9BDC6992F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CEBBE-B136-4994-BD15-2BBE7ADD9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E056D-1007-45FF-9648-56E9E4464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971AA-D276-4342-8249-4E4D6E4F0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96FD5-AFE9-4AD6-8A20-79A348DCF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8B90A-3EB4-4DFE-BF39-48215B628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38096-3375-49B3-8A1B-87AA8FAF6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C78BB-0C3C-4477-87F3-8B2194A9B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874-8DB0-4554-B864-D0A4ABA0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F12-753D-49DA-AE80-C4496EB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479-495A-41C7-8098-5307A54C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7F4-4A97-4E6D-9656-BB1FCE0E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EF7-984E-48AA-855B-75C02F5E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BB76-C2CC-4C45-BF2D-D54BB7A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0097-C038-44FE-8780-BCB54CE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3678-5CFD-4938-A617-FB4FE9F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9C6A-A992-41F8-B675-D180828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4C2D-BBE3-43F2-BA2E-DF532DD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ACAA-1388-4F61-94A2-9DB62D2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4FD-6AC4-4548-9971-3CB7541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F0BA-37B6-4DCD-81C4-6F86023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26C-BB46-4866-B08F-B7AF027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C47-B367-49A6-AB72-B3A9B0BB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08D-AB34-414B-96DE-D07C670E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95E7-8C4E-440B-9895-7FC6BB42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7005-799C-4352-B5D8-C769CA9E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F1EF-EC78-4A1F-AD86-D2C0A2C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86FF-CEBA-4B2C-B4A4-C7C5430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7408-A7CA-472E-ABD7-B3052C7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F1B2-2620-4046-AD1A-6B919F5A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4C6-909B-4B8E-B074-0C4C7BC3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BEBD-EC6E-46B8-AAEE-79A8CB0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281D-2397-4AE4-AC42-33AF87E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C8AC-751B-49C5-9353-0D6C0EC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D2F3-343C-471F-96A8-472B658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D572-A0CD-4343-9DFD-A46BD931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DA8F-BD9E-4E41-8BDC-1489084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E876-9EC8-451C-BB55-6AE02A84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6B0C-BB3C-4832-8BC2-6E5FB927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4AE5-80B5-463D-ABB2-9D29380C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5D84-655F-4889-97D0-3158B128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FEB-CC91-495D-8366-A9806576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7629-E75B-4310-89F7-94E9D124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0C09-DB2B-4ED9-AAB7-FF4269CA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4D60-158F-499B-92A1-2686006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C619-D066-4315-A932-8E2D003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3360-86B2-4BEC-831F-EE1C98E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D48D-DD3E-4ED7-958C-724E56E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ED30-F1B3-42D0-94CA-607A20C6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9A74-3CFA-4222-85CB-C310B595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9183-450F-493F-A144-8D676593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9FF-6151-4745-9313-1A90A6B5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ADC-2421-4DEF-8BD8-CDFAC505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09E-9723-40CE-B2D2-9FA7C03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F62-09FA-4177-9BB6-B247AC3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4F7-E2AE-4BA7-99F9-81B24CA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050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528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050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6E5E5-AE3A-4CD1-8A2D-5042EC8AA2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Text Box 8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248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24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496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7C2BB-7904-4D56-B2B8-6C93C9658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248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24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496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F6056-549F-41F8-8565-5FC534F73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248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24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496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7784-0E99-40C2-995A-D36962ED9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SPECS Logo11"/>
          <p:cNvPicPr/>
          <p:nvPr/>
        </p:nvPicPr>
        <p:blipFill>
          <a:blip r:embed="rId1"/>
          <a:stretch/>
        </p:blipFill>
        <p:spPr>
          <a:xfrm>
            <a:off x="7920000" y="971640"/>
            <a:ext cx="2160720" cy="9968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504720" y="2340000"/>
            <a:ext cx="907272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ctic Sea Ice Predictability and Prediction on Seasonal-to-Decadal Timesca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60360" y="5075280"/>
            <a:ext cx="943308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ginie Guem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Edward Blanchard-Wrigglesworth, Matthieu Chevallier, Michel Déqué, Francisco Doblas-Reyes, Neven S Fuckar, Francois Massonnet, Danila Volpi, David Salas y Mél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0" descr="MINECO"/>
          <p:cNvPicPr/>
          <p:nvPr/>
        </p:nvPicPr>
        <p:blipFill>
          <a:blip r:embed="rId2"/>
          <a:srcRect l="0" t="2968" r="0" b="2968"/>
          <a:stretch/>
        </p:blipFill>
        <p:spPr>
          <a:xfrm>
            <a:off x="0" y="927000"/>
            <a:ext cx="2225520" cy="91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2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216000" y="190800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omaly versus Full Field Initial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44360" y="2556000"/>
            <a:ext cx="9649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C-Earth2.3, 5 members, start dates every 2 years from 1960 to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35"/>
          <p:cNvSpPr/>
          <p:nvPr/>
        </p:nvSpPr>
        <p:spPr>
          <a:xfrm>
            <a:off x="216000" y="680400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IN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storical simul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216000" y="305928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F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field initialization from ORAS4 + 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4"/>
          <p:cNvSpPr/>
          <p:nvPr/>
        </p:nvSpPr>
        <p:spPr>
          <a:xfrm>
            <a:off x="216000" y="3708360"/>
            <a:ext cx="9217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SI-A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cean and sea ice anomaly initialization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s to ensure consistenc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216000" y="4788000"/>
            <a:ext cx="9864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rho-OSI-wA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 and sea ice weighted anoma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to account for the different mode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amplitudes of variability + (density, temperatur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(temperature, salinity) anomaly initialis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ila.volpi@ic3.c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71280" y="2914560"/>
            <a:ext cx="4969080" cy="3457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3"/>
          <a:stretch/>
        </p:blipFill>
        <p:spPr>
          <a:xfrm>
            <a:off x="5040360" y="2914560"/>
            <a:ext cx="5000400" cy="34578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8458200" y="5519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03280" y="2701800"/>
            <a:ext cx="43862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MSE sea ice are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f: Guemas et al (201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796000" y="2701800"/>
            <a:ext cx="4213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MSE sea ice volum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f: Guemas et al (201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863640" y="441000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OI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36"/>
          <p:cNvSpPr/>
          <p:nvPr/>
        </p:nvSpPr>
        <p:spPr>
          <a:xfrm>
            <a:off x="6870600" y="4383000"/>
            <a:ext cx="13384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OI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3384720" y="416556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F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40"/>
          <p:cNvSpPr/>
          <p:nvPr/>
        </p:nvSpPr>
        <p:spPr>
          <a:xfrm>
            <a:off x="5862600" y="4626000"/>
            <a:ext cx="13384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F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43"/>
          <p:cNvSpPr/>
          <p:nvPr/>
        </p:nvSpPr>
        <p:spPr>
          <a:xfrm>
            <a:off x="8526600" y="419400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I-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44"/>
          <p:cNvSpPr/>
          <p:nvPr/>
        </p:nvSpPr>
        <p:spPr>
          <a:xfrm rot="5400000">
            <a:off x="4008600" y="477072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I-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46"/>
          <p:cNvSpPr/>
          <p:nvPr/>
        </p:nvSpPr>
        <p:spPr>
          <a:xfrm>
            <a:off x="1871640" y="5273640"/>
            <a:ext cx="2232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</a:rPr>
              <a:t>rho-OSI-w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47"/>
          <p:cNvSpPr/>
          <p:nvPr/>
        </p:nvSpPr>
        <p:spPr>
          <a:xfrm>
            <a:off x="7272360" y="5364000"/>
            <a:ext cx="2232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</a:rPr>
              <a:t>rho-OSI-w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216000" y="190800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omaly versus Full Field Initial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ila.volpi@ic3.c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792000" y="644364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wer forecast error when using ocean and sea ice anomaly initialization, even lower with weighted anomal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503280" y="2303640"/>
            <a:ext cx="90741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RM-CM5.1 and EC-Earth2.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forecasts initialized ever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vember and ever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from 1990 to 2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month 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ed from ERA-interim for the atmosphere + in-home sea ice reconstructions + ORAS4 (Ec-Earth2.3) or ocean reconstruction (CNRM-CM5.1) for the oc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members using initial perturbations applied to all components for EC-Earth2.3, only the atmosphere  for CNRM-CM5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032" descr="S:\guemas\Téléchargements\MASKS.png"/>
          <p:cNvPicPr/>
          <p:nvPr/>
        </p:nvPicPr>
        <p:blipFill>
          <a:blip r:embed="rId2"/>
          <a:srcRect l="0" t="4896" r="0" b="4887"/>
          <a:stretch/>
        </p:blipFill>
        <p:spPr>
          <a:xfrm>
            <a:off x="152280" y="1728720"/>
            <a:ext cx="7904160" cy="550728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033"/>
          <p:cNvSpPr/>
          <p:nvPr/>
        </p:nvSpPr>
        <p:spPr>
          <a:xfrm>
            <a:off x="7686720" y="1979640"/>
            <a:ext cx="369720" cy="2592360"/>
          </a:xfrm>
          <a:custGeom>
            <a:avLst/>
            <a:gdLst>
              <a:gd name="textAreaLeft" fmla="*/ 0 w 369720"/>
              <a:gd name="textAreaRight" fmla="*/ 133560 w 369720"/>
              <a:gd name="textAreaTop" fmla="*/ 96480 h 2592360"/>
              <a:gd name="textAreaBottom" fmla="*/ 24958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8"/>
                  <a:pt x="10800" y="2576"/>
                </a:cubicBezTo>
                <a:lnTo>
                  <a:pt x="10800" y="8224"/>
                </a:lnTo>
                <a:cubicBezTo>
                  <a:pt x="10800" y="9512"/>
                  <a:pt x="16200" y="10800"/>
                  <a:pt x="21600" y="10800"/>
                </a:cubicBezTo>
                <a:cubicBezTo>
                  <a:pt x="16200" y="10800"/>
                  <a:pt x="10800" y="12088"/>
                  <a:pt x="10800" y="13376"/>
                </a:cubicBezTo>
                <a:lnTo>
                  <a:pt x="10800" y="19024"/>
                </a:lnTo>
                <a:cubicBezTo>
                  <a:pt x="10800" y="2031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34"/>
          <p:cNvSpPr/>
          <p:nvPr/>
        </p:nvSpPr>
        <p:spPr>
          <a:xfrm>
            <a:off x="8220240" y="2944800"/>
            <a:ext cx="17888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Summer predi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035"/>
          <p:cNvSpPr/>
          <p:nvPr/>
        </p:nvSpPr>
        <p:spPr>
          <a:xfrm>
            <a:off x="7686720" y="3995640"/>
            <a:ext cx="369720" cy="2243160"/>
          </a:xfrm>
          <a:custGeom>
            <a:avLst/>
            <a:gdLst>
              <a:gd name="textAreaLeft" fmla="*/ 0 w 369720"/>
              <a:gd name="textAreaRight" fmla="*/ 133560 w 369720"/>
              <a:gd name="textAreaTop" fmla="*/ 96480 h 2243160"/>
              <a:gd name="textAreaBottom" fmla="*/ 21466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89"/>
                  <a:pt x="10800" y="2978"/>
                </a:cubicBezTo>
                <a:lnTo>
                  <a:pt x="10800" y="7822"/>
                </a:lnTo>
                <a:cubicBezTo>
                  <a:pt x="10800" y="9311"/>
                  <a:pt x="16200" y="10800"/>
                  <a:pt x="21600" y="10800"/>
                </a:cubicBezTo>
                <a:cubicBezTo>
                  <a:pt x="16200" y="10800"/>
                  <a:pt x="10800" y="12289"/>
                  <a:pt x="10800" y="13778"/>
                </a:cubicBezTo>
                <a:lnTo>
                  <a:pt x="10800" y="18622"/>
                </a:lnTo>
                <a:cubicBezTo>
                  <a:pt x="10800" y="2011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36"/>
          <p:cNvSpPr/>
          <p:nvPr/>
        </p:nvSpPr>
        <p:spPr>
          <a:xfrm>
            <a:off x="6056280" y="6238800"/>
            <a:ext cx="163044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037"/>
          <p:cNvSpPr/>
          <p:nvPr/>
        </p:nvSpPr>
        <p:spPr>
          <a:xfrm>
            <a:off x="8220240" y="4859280"/>
            <a:ext cx="17888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Winter predi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038"/>
          <p:cNvSpPr/>
          <p:nvPr/>
        </p:nvSpPr>
        <p:spPr>
          <a:xfrm>
            <a:off x="2814480" y="2556000"/>
            <a:ext cx="10731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039"/>
          <p:cNvSpPr/>
          <p:nvPr/>
        </p:nvSpPr>
        <p:spPr>
          <a:xfrm rot="18695400">
            <a:off x="3821760" y="2471760"/>
            <a:ext cx="1484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khot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040"/>
          <p:cNvSpPr/>
          <p:nvPr/>
        </p:nvSpPr>
        <p:spPr>
          <a:xfrm>
            <a:off x="2708280" y="5272200"/>
            <a:ext cx="1539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041"/>
          <p:cNvSpPr/>
          <p:nvPr/>
        </p:nvSpPr>
        <p:spPr>
          <a:xfrm rot="1920000">
            <a:off x="3555360" y="5179680"/>
            <a:ext cx="1574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r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42"/>
          <p:cNvSpPr/>
          <p:nvPr/>
        </p:nvSpPr>
        <p:spPr>
          <a:xfrm rot="1173000">
            <a:off x="3857400" y="4428360"/>
            <a:ext cx="930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a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043"/>
          <p:cNvSpPr/>
          <p:nvPr/>
        </p:nvSpPr>
        <p:spPr>
          <a:xfrm rot="19092600">
            <a:off x="1837440" y="4830120"/>
            <a:ext cx="1146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ff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044"/>
          <p:cNvSpPr/>
          <p:nvPr/>
        </p:nvSpPr>
        <p:spPr>
          <a:xfrm>
            <a:off x="1303200" y="4427640"/>
            <a:ext cx="1216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uds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11" descr="S:\guemas\WORKDIR\plots\detrended_cor_sie_TotalArc_minus_Baltic_Sea.jpg"/>
          <p:cNvPicPr/>
          <p:nvPr/>
        </p:nvPicPr>
        <p:blipFill>
          <a:blip r:embed="rId2"/>
          <a:srcRect l="0" t="0" r="0" b="9635"/>
          <a:stretch/>
        </p:blipFill>
        <p:spPr>
          <a:xfrm>
            <a:off x="108000" y="2556000"/>
            <a:ext cx="5167440" cy="3240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S:\guemas\WORKDIR\plots\detrended_cor_sie_Baffin.jpg"/>
          <p:cNvPicPr/>
          <p:nvPr/>
        </p:nvPicPr>
        <p:blipFill>
          <a:blip r:embed="rId3"/>
          <a:srcRect l="0" t="0" r="5273" b="10140"/>
          <a:stretch/>
        </p:blipFill>
        <p:spPr>
          <a:xfrm>
            <a:off x="5059440" y="2558880"/>
            <a:ext cx="4919760" cy="32371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3"/>
          <p:cNvSpPr/>
          <p:nvPr/>
        </p:nvSpPr>
        <p:spPr>
          <a:xfrm>
            <a:off x="111240" y="2266920"/>
            <a:ext cx="9856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1752480" y="2411280"/>
            <a:ext cx="1905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tal Arctic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6781680" y="2390760"/>
            <a:ext cx="1905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ffin B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6" descr="S:\guemas\Téléchargements\MASKS.png"/>
          <p:cNvPicPr/>
          <p:nvPr/>
        </p:nvPicPr>
        <p:blipFill>
          <a:blip r:embed="rId4"/>
          <a:srcRect l="0" t="0" r="25041" b="0"/>
          <a:stretch/>
        </p:blipFill>
        <p:spPr>
          <a:xfrm>
            <a:off x="8325000" y="5889600"/>
            <a:ext cx="1657080" cy="17067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8"/>
          <p:cNvSpPr/>
          <p:nvPr/>
        </p:nvSpPr>
        <p:spPr>
          <a:xfrm>
            <a:off x="431640" y="1863720"/>
            <a:ext cx="9434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nearly Detrended Anomaly Correlation for Sea Ice Extent (SI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914400" y="4375080"/>
            <a:ext cx="2122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EC-Earth 2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911160" y="4716360"/>
            <a:ext cx="2125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NRM-CM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2"/>
          <p:cNvSpPr/>
          <p:nvPr/>
        </p:nvSpPr>
        <p:spPr>
          <a:xfrm>
            <a:off x="936720" y="5045040"/>
            <a:ext cx="428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EC-Earth 2.3 + CNRM-CM 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533520" y="626580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4"/>
          <p:cNvSpPr/>
          <p:nvPr/>
        </p:nvSpPr>
        <p:spPr>
          <a:xfrm>
            <a:off x="1143000" y="5945040"/>
            <a:ext cx="6858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ability until March                         Similar performance between CNRM-CM5.1 and EC-Earth 2.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7"/>
          <p:cNvSpPr/>
          <p:nvPr/>
        </p:nvSpPr>
        <p:spPr>
          <a:xfrm flipH="1" flipV="1">
            <a:off x="8001000" y="5435280"/>
            <a:ext cx="990720" cy="144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6048360" y="4284720"/>
            <a:ext cx="31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 confidence interv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7" name="Straight Arrow Connector 3"/>
          <p:cNvCxnSpPr/>
          <p:nvPr/>
        </p:nvCxnSpPr>
        <p:spPr>
          <a:xfrm flipV="1">
            <a:off x="6552720" y="3563640"/>
            <a:ext cx="2293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9"/>
          <p:cNvCxnSpPr/>
          <p:nvPr/>
        </p:nvCxnSpPr>
        <p:spPr>
          <a:xfrm flipV="1">
            <a:off x="6553080" y="3202920"/>
            <a:ext cx="7912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21"/>
          <p:cNvSpPr/>
          <p:nvPr/>
        </p:nvSpPr>
        <p:spPr>
          <a:xfrm>
            <a:off x="7848720" y="4716360"/>
            <a:ext cx="2160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0" name="Straight Arrow Connector 23"/>
          <p:cNvCxnSpPr>
            <a:stCxn id="429" idx="0"/>
          </p:cNvCxnSpPr>
          <p:nvPr/>
        </p:nvCxnSpPr>
        <p:spPr>
          <a:xfrm flipV="1">
            <a:off x="8927640" y="3742560"/>
            <a:ext cx="6444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8" descr="S:\guemas\WORKDIR\plots\detrended_cor_sie_Grnland.jpg"/>
          <p:cNvPicPr/>
          <p:nvPr/>
        </p:nvPicPr>
        <p:blipFill>
          <a:blip r:embed="rId1"/>
          <a:srcRect l="0" t="0" r="0" b="9635"/>
          <a:stretch/>
        </p:blipFill>
        <p:spPr>
          <a:xfrm>
            <a:off x="108000" y="2556000"/>
            <a:ext cx="5167440" cy="32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S:\guemas\WORKDIR\plots\detrended_cor_sie_BarKara.jpg"/>
          <p:cNvPicPr/>
          <p:nvPr/>
        </p:nvPicPr>
        <p:blipFill>
          <a:blip r:embed="rId2"/>
          <a:srcRect l="0" t="0" r="5273" b="10140"/>
          <a:stretch/>
        </p:blipFill>
        <p:spPr>
          <a:xfrm>
            <a:off x="5059440" y="2556000"/>
            <a:ext cx="4919760" cy="3236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11240" y="2266920"/>
            <a:ext cx="9856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1655640" y="2411280"/>
            <a:ext cx="22798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eenland Se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5977080" y="2390760"/>
            <a:ext cx="360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rents and Kara Se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16" descr="S:\guemas\Téléchargements\MASKS.png"/>
          <p:cNvPicPr/>
          <p:nvPr/>
        </p:nvPicPr>
        <p:blipFill>
          <a:blip r:embed="rId4"/>
          <a:srcRect l="0" t="0" r="25041" b="0"/>
          <a:stretch/>
        </p:blipFill>
        <p:spPr>
          <a:xfrm>
            <a:off x="8325000" y="5889600"/>
            <a:ext cx="1657080" cy="17067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8"/>
          <p:cNvSpPr/>
          <p:nvPr/>
        </p:nvSpPr>
        <p:spPr>
          <a:xfrm>
            <a:off x="431640" y="1863720"/>
            <a:ext cx="9434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nearly Detrended Anomaly Correlation for Sea Ice Extent (SI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914400" y="4375080"/>
            <a:ext cx="2122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EC-Earth 2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911160" y="4716360"/>
            <a:ext cx="2125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NRM-CM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936720" y="5045040"/>
            <a:ext cx="428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EC-Earth 2.3 + CNRM-CM 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626580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1008000" y="5991120"/>
            <a:ext cx="68580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ability for the first month only in Greenland, until March in Barents and Kara                        Better performance from CNRM-CM5.1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6048360" y="4284720"/>
            <a:ext cx="31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 confidence interv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3"/>
          <p:cNvCxnSpPr/>
          <p:nvPr/>
        </p:nvCxnSpPr>
        <p:spPr>
          <a:xfrm flipH="1" flipV="1">
            <a:off x="6264000" y="3923640"/>
            <a:ext cx="28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Straight Arrow Connector 19"/>
          <p:cNvCxnSpPr/>
          <p:nvPr/>
        </p:nvCxnSpPr>
        <p:spPr>
          <a:xfrm flipV="1">
            <a:off x="6552720" y="3131640"/>
            <a:ext cx="5756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9" name="TextBox 21"/>
          <p:cNvSpPr/>
          <p:nvPr/>
        </p:nvSpPr>
        <p:spPr>
          <a:xfrm>
            <a:off x="7848720" y="4716360"/>
            <a:ext cx="2160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Straight Arrow Connector 23"/>
          <p:cNvCxnSpPr>
            <a:stCxn id="449" idx="0"/>
          </p:cNvCxnSpPr>
          <p:nvPr/>
        </p:nvCxnSpPr>
        <p:spPr>
          <a:xfrm flipV="1">
            <a:off x="8928000" y="3347280"/>
            <a:ext cx="324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Line 20"/>
          <p:cNvSpPr/>
          <p:nvPr/>
        </p:nvSpPr>
        <p:spPr>
          <a:xfrm flipH="1" flipV="1">
            <a:off x="8959680" y="5435640"/>
            <a:ext cx="36216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21"/>
          <p:cNvSpPr/>
          <p:nvPr/>
        </p:nvSpPr>
        <p:spPr>
          <a:xfrm>
            <a:off x="8959680" y="5435640"/>
            <a:ext cx="47340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>
            <a:off x="4572000" y="4886280"/>
            <a:ext cx="46483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1" descr="S:\guemas\WORKDIR\plots\detrended_cor_sie_Okhotsk.jpg"/>
          <p:cNvPicPr/>
          <p:nvPr/>
        </p:nvPicPr>
        <p:blipFill>
          <a:blip r:embed="rId1"/>
          <a:srcRect l="0" t="0" r="0" b="9635"/>
          <a:stretch/>
        </p:blipFill>
        <p:spPr>
          <a:xfrm>
            <a:off x="108000" y="2556000"/>
            <a:ext cx="5167440" cy="3240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S:\guemas\WORKDIR\plots\detrended_cor_sie_Bering.jpg"/>
          <p:cNvPicPr/>
          <p:nvPr/>
        </p:nvPicPr>
        <p:blipFill>
          <a:blip r:embed="rId2"/>
          <a:srcRect l="0" t="0" r="5273" b="10140"/>
          <a:stretch/>
        </p:blipFill>
        <p:spPr>
          <a:xfrm>
            <a:off x="5059440" y="2556000"/>
            <a:ext cx="4919760" cy="3236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111240" y="2266920"/>
            <a:ext cx="9856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1655640" y="2411280"/>
            <a:ext cx="22798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khotsk Se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77080" y="2390760"/>
            <a:ext cx="360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ring S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S:\guemas\Téléchargements\MASKS.png"/>
          <p:cNvPicPr/>
          <p:nvPr/>
        </p:nvPicPr>
        <p:blipFill>
          <a:blip r:embed="rId4"/>
          <a:srcRect l="0" t="0" r="25041" b="0"/>
          <a:stretch/>
        </p:blipFill>
        <p:spPr>
          <a:xfrm>
            <a:off x="8325000" y="5889600"/>
            <a:ext cx="1657080" cy="17067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8"/>
          <p:cNvSpPr/>
          <p:nvPr/>
        </p:nvSpPr>
        <p:spPr>
          <a:xfrm>
            <a:off x="431640" y="1863720"/>
            <a:ext cx="9434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nearly Detrended Anomaly Correlation for Sea Ice Extent (SI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9"/>
          <p:cNvSpPr/>
          <p:nvPr/>
        </p:nvSpPr>
        <p:spPr>
          <a:xfrm>
            <a:off x="914400" y="4375080"/>
            <a:ext cx="2122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EC-Earth 2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911160" y="4716360"/>
            <a:ext cx="2125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NRM-CM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936720" y="5045040"/>
            <a:ext cx="428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EC-Earth 2.3 + CNRM-CM 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533520" y="626580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1008000" y="5991120"/>
            <a:ext cx="6858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tter initialisation in Okhotsk Sea with CNRM-CM5: ocean ? Multi-model allows to make the most of individual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6048360" y="4284720"/>
            <a:ext cx="31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 confidence interv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0" name="Straight Arrow Connector 3"/>
          <p:cNvCxnSpPr/>
          <p:nvPr/>
        </p:nvCxnSpPr>
        <p:spPr>
          <a:xfrm flipH="1" flipV="1">
            <a:off x="6264000" y="3923640"/>
            <a:ext cx="28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1" name="Straight Arrow Connector 19"/>
          <p:cNvCxnSpPr/>
          <p:nvPr/>
        </p:nvCxnSpPr>
        <p:spPr>
          <a:xfrm flipV="1">
            <a:off x="6553080" y="3131640"/>
            <a:ext cx="28800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2" name="TextBox 21"/>
          <p:cNvSpPr/>
          <p:nvPr/>
        </p:nvSpPr>
        <p:spPr>
          <a:xfrm>
            <a:off x="7848720" y="4716360"/>
            <a:ext cx="2160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3" name="Straight Arrow Connector 23"/>
          <p:cNvCxnSpPr>
            <a:stCxn id="472" idx="0"/>
          </p:cNvCxnSpPr>
          <p:nvPr/>
        </p:nvCxnSpPr>
        <p:spPr>
          <a:xfrm flipV="1">
            <a:off x="8927640" y="3924000"/>
            <a:ext cx="2134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4" name="Line 22"/>
          <p:cNvSpPr/>
          <p:nvPr/>
        </p:nvSpPr>
        <p:spPr>
          <a:xfrm>
            <a:off x="4535640" y="4992840"/>
            <a:ext cx="5005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9031320" y="5364000"/>
            <a:ext cx="1857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216000" y="1908000"/>
            <a:ext cx="9648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urces of sea ice predictability: persistence, ice  thickness preconditioning, advection, ocean heat transport, reemerge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ization: 1. Need to make the most of the growing sea ice observations (thickness, melt pond, ice drift)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2. Need for ensembles consistent with the atmospheric and oceanic sta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Need for further investigation of anomaly initialisation benefit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ction: winter predictability until March in the Baffin Bay, Kara, Barents and Okhotsk se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2"/>
          <a:srcRect l="0" t="3" r="0" b="50410"/>
          <a:stretch/>
        </p:blipFill>
        <p:spPr>
          <a:xfrm>
            <a:off x="449280" y="2649600"/>
            <a:ext cx="4735440" cy="484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rcRect l="0" t="50635" r="0" b="-228"/>
          <a:stretch/>
        </p:blipFill>
        <p:spPr>
          <a:xfrm>
            <a:off x="5184720" y="2592360"/>
            <a:ext cx="4680000" cy="478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3095640" y="3132000"/>
            <a:ext cx="2952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Ice Thick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7632720" y="3151080"/>
            <a:ext cx="2592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Ice Thick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QJ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160720" y="7236000"/>
            <a:ext cx="561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Salas-Melia (2012) Journal of Clim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ce thickness preconditio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168720" y="2644920"/>
            <a:ext cx="374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Thick ice = best predictor of September extent, thin ice good predictor for March ex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228600" y="414036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MS PGothic"/>
              </a:rPr>
              <a:t>Chevallier and Salas y Mélia, JCLIM, 20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 flipH="1">
            <a:off x="6840000" y="399564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73"/>
          <p:cNvGrpSpPr/>
          <p:nvPr/>
        </p:nvGrpSpPr>
        <p:grpSpPr>
          <a:xfrm>
            <a:off x="144000" y="2365200"/>
            <a:ext cx="3124440" cy="1676520"/>
            <a:chOff x="144000" y="2365200"/>
            <a:chExt cx="3124440" cy="1676520"/>
          </a:xfrm>
        </p:grpSpPr>
        <p:sp>
          <p:nvSpPr>
            <p:cNvPr id="230" name="Line 17"/>
            <p:cNvSpPr/>
            <p:nvPr/>
          </p:nvSpPr>
          <p:spPr>
            <a:xfrm>
              <a:off x="220320" y="2365200"/>
              <a:ext cx="0" cy="160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H="1">
              <a:off x="144000" y="3889440"/>
              <a:ext cx="312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220320" y="3660840"/>
              <a:ext cx="3045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525240" y="350820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830160" y="3355920"/>
              <a:ext cx="304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135080" y="2974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592280" y="3355920"/>
              <a:ext cx="7621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2354400" y="373716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1135080" y="2746080"/>
              <a:ext cx="1981440" cy="12956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6983280" y="2443320"/>
            <a:ext cx="2743200" cy="1600200"/>
            <a:chOff x="6983280" y="2443320"/>
            <a:chExt cx="2743200" cy="1600200"/>
          </a:xfrm>
        </p:grpSpPr>
        <p:sp>
          <p:nvSpPr>
            <p:cNvPr id="240" name="Line 25"/>
            <p:cNvSpPr/>
            <p:nvPr/>
          </p:nvSpPr>
          <p:spPr>
            <a:xfrm>
              <a:off x="6983280" y="244332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6983280" y="3738960"/>
              <a:ext cx="3045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7287840" y="358632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7592760" y="3434040"/>
              <a:ext cx="30456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7897680" y="305280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8354880" y="3434040"/>
              <a:ext cx="76176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32"/>
            <p:cNvSpPr/>
            <p:nvPr/>
          </p:nvSpPr>
          <p:spPr>
            <a:xfrm>
              <a:off x="9117000" y="381492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34"/>
            <p:cNvSpPr/>
            <p:nvPr/>
          </p:nvSpPr>
          <p:spPr>
            <a:xfrm>
              <a:off x="6983280" y="3281400"/>
              <a:ext cx="914400" cy="7621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2"/>
          <p:cNvGrpSpPr/>
          <p:nvPr/>
        </p:nvGrpSpPr>
        <p:grpSpPr>
          <a:xfrm>
            <a:off x="790560" y="4156200"/>
            <a:ext cx="4105440" cy="3079800"/>
            <a:chOff x="790560" y="4156200"/>
            <a:chExt cx="4105440" cy="3079800"/>
          </a:xfrm>
        </p:grpSpPr>
        <p:pic>
          <p:nvPicPr>
            <p:cNvPr id="249" name="Picture 14" descr="Determination_SEP"/>
            <p:cNvPicPr/>
            <p:nvPr/>
          </p:nvPicPr>
          <p:blipFill>
            <a:blip r:embed="rId2"/>
            <a:stretch/>
          </p:blipFill>
          <p:spPr>
            <a:xfrm>
              <a:off x="790560" y="4156200"/>
              <a:ext cx="41054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35"/>
            <p:cNvSpPr/>
            <p:nvPr/>
          </p:nvSpPr>
          <p:spPr>
            <a:xfrm>
              <a:off x="790560" y="4176720"/>
              <a:ext cx="4105440" cy="305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38"/>
            <p:cNvSpPr/>
            <p:nvPr/>
          </p:nvSpPr>
          <p:spPr>
            <a:xfrm>
              <a:off x="3743640" y="47530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>
              <a:off x="3167280" y="5257800"/>
              <a:ext cx="576000" cy="21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2"/>
            <p:cNvSpPr/>
            <p:nvPr/>
          </p:nvSpPr>
          <p:spPr>
            <a:xfrm>
              <a:off x="2951280" y="5689800"/>
              <a:ext cx="144360" cy="287280"/>
            </a:xfrm>
            <a:prstGeom prst="line">
              <a:avLst/>
            </a:prstGeom>
            <a:ln w="9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3"/>
            <p:cNvSpPr/>
            <p:nvPr/>
          </p:nvSpPr>
          <p:spPr>
            <a:xfrm>
              <a:off x="1366560" y="5832720"/>
              <a:ext cx="172728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Total volu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4"/>
            <p:cNvSpPr/>
            <p:nvPr/>
          </p:nvSpPr>
          <p:spPr>
            <a:xfrm>
              <a:off x="2664000" y="6193080"/>
              <a:ext cx="10080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45"/>
            <p:cNvSpPr/>
            <p:nvPr/>
          </p:nvSpPr>
          <p:spPr>
            <a:xfrm>
              <a:off x="1331640" y="4500720"/>
              <a:ext cx="136836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37"/>
            <p:cNvSpPr/>
            <p:nvPr/>
          </p:nvSpPr>
          <p:spPr>
            <a:xfrm>
              <a:off x="2448000" y="4537080"/>
              <a:ext cx="172728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 are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39"/>
            <p:cNvSpPr/>
            <p:nvPr/>
          </p:nvSpPr>
          <p:spPr>
            <a:xfrm>
              <a:off x="1438200" y="4897440"/>
              <a:ext cx="237672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Area of ice h &gt; 0.9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41"/>
            <p:cNvSpPr/>
            <p:nvPr/>
          </p:nvSpPr>
          <p:spPr>
            <a:xfrm>
              <a:off x="1295280" y="5383440"/>
              <a:ext cx="237672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990099"/>
                  </a:solidFill>
                  <a:latin typeface="Arial"/>
                </a:rPr>
                <a:t>Area of ice h &gt; 1.5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0" name="Picture 15" descr="Determination_MAR"/>
          <p:cNvPicPr/>
          <p:nvPr/>
        </p:nvPicPr>
        <p:blipFill>
          <a:blip r:embed="rId3"/>
          <a:stretch/>
        </p:blipFill>
        <p:spPr>
          <a:xfrm>
            <a:off x="5386320" y="4140360"/>
            <a:ext cx="4106880" cy="3081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5"/>
          <p:cNvSpPr/>
          <p:nvPr/>
        </p:nvSpPr>
        <p:spPr>
          <a:xfrm>
            <a:off x="5388120" y="4156200"/>
            <a:ext cx="4105080" cy="30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6"/>
          <p:cNvSpPr/>
          <p:nvPr/>
        </p:nvSpPr>
        <p:spPr>
          <a:xfrm>
            <a:off x="8340840" y="477036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47"/>
          <p:cNvSpPr/>
          <p:nvPr/>
        </p:nvSpPr>
        <p:spPr>
          <a:xfrm>
            <a:off x="8267760" y="5275440"/>
            <a:ext cx="576360" cy="215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5892840" y="5400720"/>
            <a:ext cx="237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Area of ice h &lt; 1.5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7980480" y="5796000"/>
            <a:ext cx="64764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5964120" y="5850000"/>
            <a:ext cx="1727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Total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7477200" y="6083280"/>
            <a:ext cx="115092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52"/>
          <p:cNvSpPr/>
          <p:nvPr/>
        </p:nvSpPr>
        <p:spPr>
          <a:xfrm>
            <a:off x="5929200" y="4460760"/>
            <a:ext cx="136836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7045200" y="4554360"/>
            <a:ext cx="1727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are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4"/>
          <p:cNvSpPr/>
          <p:nvPr/>
        </p:nvSpPr>
        <p:spPr>
          <a:xfrm>
            <a:off x="6035760" y="4913280"/>
            <a:ext cx="237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rea of ice h &lt; 0.9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QJ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rcRect l="0" t="10878" r="0" b="11781"/>
          <a:stretch/>
        </p:blipFill>
        <p:spPr>
          <a:xfrm>
            <a:off x="936720" y="2432160"/>
            <a:ext cx="8156520" cy="47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rcRect l="0" t="4255" r="0" b="3130"/>
          <a:stretch/>
        </p:blipFill>
        <p:spPr>
          <a:xfrm>
            <a:off x="144360" y="3108240"/>
            <a:ext cx="4876920" cy="4206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rcRect l="0" t="4366" r="0" b="3019"/>
          <a:stretch/>
        </p:blipFill>
        <p:spPr>
          <a:xfrm>
            <a:off x="5076720" y="3108240"/>
            <a:ext cx="4876920" cy="4206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cean heat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QJ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1280" y="2463840"/>
            <a:ext cx="986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 detrended annual-mean ORAS4 60N heat transport and sea ice concent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863640" y="2771640"/>
            <a:ext cx="3456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ntic OHT lag -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5761080" y="2771640"/>
            <a:ext cx="3456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ific OHT lag -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3241800" y="4032360"/>
            <a:ext cx="3670200" cy="468360"/>
            <a:chOff x="3241800" y="4032360"/>
            <a:chExt cx="3670200" cy="468360"/>
          </a:xfrm>
        </p:grpSpPr>
        <p:grpSp>
          <p:nvGrpSpPr>
            <p:cNvPr id="286" name="Group 3"/>
            <p:cNvGrpSpPr/>
            <p:nvPr/>
          </p:nvGrpSpPr>
          <p:grpSpPr>
            <a:xfrm>
              <a:off x="3529440" y="4320720"/>
              <a:ext cx="3024360" cy="180000"/>
              <a:chOff x="3529440" y="4320720"/>
              <a:chExt cx="3024360" cy="180000"/>
            </a:xfrm>
          </p:grpSpPr>
          <p:sp>
            <p:nvSpPr>
              <p:cNvPr id="287" name="Rectangle 2"/>
              <p:cNvSpPr/>
              <p:nvPr/>
            </p:nvSpPr>
            <p:spPr>
              <a:xfrm rot="10800000">
                <a:off x="5689800" y="4320720"/>
                <a:ext cx="432000" cy="180000"/>
              </a:xfrm>
              <a:prstGeom prst="rect">
                <a:avLst/>
              </a:prstGeom>
              <a:solidFill>
                <a:srgbClr val="e4721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 rot="10800000">
                <a:off x="5257800" y="4320720"/>
                <a:ext cx="432000" cy="18000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3"/>
              <p:cNvSpPr/>
              <p:nvPr/>
            </p:nvSpPr>
            <p:spPr>
              <a:xfrm rot="10800000">
                <a:off x="4825800" y="4320720"/>
                <a:ext cx="432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4"/>
              <p:cNvSpPr/>
              <p:nvPr/>
            </p:nvSpPr>
            <p:spPr>
              <a:xfrm rot="10800000">
                <a:off x="4393440" y="4320720"/>
                <a:ext cx="432000" cy="18000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5"/>
              <p:cNvSpPr/>
              <p:nvPr/>
            </p:nvSpPr>
            <p:spPr>
              <a:xfrm rot="10800000">
                <a:off x="3961440" y="4320720"/>
                <a:ext cx="432000" cy="180000"/>
              </a:xfrm>
              <a:prstGeom prst="rect">
                <a:avLst/>
              </a:prstGeom>
              <a:solidFill>
                <a:srgbClr val="1e7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6"/>
              <p:cNvSpPr/>
              <p:nvPr/>
            </p:nvSpPr>
            <p:spPr>
              <a:xfrm rot="10800000">
                <a:off x="3529440" y="4320720"/>
                <a:ext cx="432000" cy="180000"/>
              </a:xfrm>
              <a:prstGeom prst="rect">
                <a:avLst/>
              </a:prstGeom>
              <a:solidFill>
                <a:srgbClr val="262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7"/>
              <p:cNvSpPr/>
              <p:nvPr/>
            </p:nvSpPr>
            <p:spPr>
              <a:xfrm rot="10800000">
                <a:off x="6121800" y="4320720"/>
                <a:ext cx="432000" cy="180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TextBox 4"/>
            <p:cNvSpPr/>
            <p:nvPr/>
          </p:nvSpPr>
          <p:spPr>
            <a:xfrm>
              <a:off x="3241800" y="4032360"/>
              <a:ext cx="3670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0.8 -0.6 -0.4  -0.2   0.2  0.4   0.6   0.8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Curved Down Arrow 16"/>
          <p:cNvSpPr/>
          <p:nvPr/>
        </p:nvSpPr>
        <p:spPr>
          <a:xfrm rot="10800000">
            <a:off x="3384720" y="6057720"/>
            <a:ext cx="3095280" cy="601560"/>
          </a:xfrm>
          <a:custGeom>
            <a:avLst/>
            <a:gdLst>
              <a:gd name="textAreaLeft" fmla="*/ 717480 w 3095280"/>
              <a:gd name="textAreaRight" fmla="*/ 2302560 w 309528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3" hR="21600" stAng="10800000" swAng="5400000"/>
                <a:lnTo>
                  <a:pt x="11062" y="0"/>
                </a:lnTo>
                <a:arcTo wR="10013" hR="21600" stAng="-5400000" swAng="3652970"/>
                <a:lnTo>
                  <a:pt x="21282" y="16200"/>
                </a:lnTo>
                <a:lnTo>
                  <a:pt x="20551" y="21600"/>
                </a:lnTo>
                <a:lnTo>
                  <a:pt x="19183" y="16200"/>
                </a:lnTo>
                <a:lnTo>
                  <a:pt x="19708" y="16200"/>
                </a:lnTo>
                <a:arcTo wR="10013" hR="21600" stAng="-1747030" swAng="-3569395"/>
                <a:lnTo>
                  <a:pt x="10538" y="30"/>
                </a:lnTo>
                <a:arcTo wR="10013" hR="21600" stAng="-5483575" swAng="-5316425"/>
                <a:close/>
              </a:path>
              <a:path fill="darkenLess" w="21600" h="21600">
                <a:moveTo>
                  <a:pt x="0" y="21600"/>
                </a:moveTo>
                <a:arcTo wR="10013" hR="21600" stAng="10800000" swAng="5400000"/>
                <a:lnTo>
                  <a:pt x="10013" y="0"/>
                </a:lnTo>
                <a:arcTo wR="10013" hR="21600" stAng="-5400000" swAng="83575"/>
                <a:lnTo>
                  <a:pt x="10538" y="30"/>
                </a:lnTo>
                <a:arcTo wR="10013" hR="21600" stAng="-5483575" swAng="-531642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emer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anchard-Wrigglesworth al (2011) Journal of Clim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 rot="16200000">
            <a:off x="-807120" y="4442760"/>
            <a:ext cx="2520720" cy="4741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ting sea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 rot="5400000">
            <a:off x="8291160" y="4446720"/>
            <a:ext cx="2671920" cy="4741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sea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008000" y="3471840"/>
            <a:ext cx="2737080" cy="949320"/>
          </a:xfrm>
          <a:prstGeom prst="rect">
            <a:avLst/>
          </a:prstGeom>
          <a:solidFill>
            <a:srgbClr val="329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ea ice area anomalies associated with SST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6264360" y="5075280"/>
            <a:ext cx="2736720" cy="9493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ea ice area  anomalies with sea ice thickness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Curved Down Arrow 4"/>
          <p:cNvSpPr/>
          <p:nvPr/>
        </p:nvSpPr>
        <p:spPr>
          <a:xfrm>
            <a:off x="3527280" y="2843280"/>
            <a:ext cx="3097440" cy="601560"/>
          </a:xfrm>
          <a:custGeom>
            <a:avLst/>
            <a:gdLst>
              <a:gd name="textAreaLeft" fmla="*/ 717840 w 3097440"/>
              <a:gd name="textAreaRight" fmla="*/ 2304360 w 309744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4" hR="21600" stAng="10800000" swAng="5400000"/>
                <a:lnTo>
                  <a:pt x="11062" y="0"/>
                </a:lnTo>
                <a:arcTo wR="10014" hR="21600" stAng="-5400000" swAng="3653043"/>
                <a:lnTo>
                  <a:pt x="21282" y="16200"/>
                </a:lnTo>
                <a:lnTo>
                  <a:pt x="20551" y="21600"/>
                </a:lnTo>
                <a:lnTo>
                  <a:pt x="19184" y="16200"/>
                </a:lnTo>
                <a:lnTo>
                  <a:pt x="19709" y="16200"/>
                </a:lnTo>
                <a:arcTo wR="10014" hR="21600" stAng="-1746957" swAng="-3569547"/>
                <a:lnTo>
                  <a:pt x="10538" y="30"/>
                </a:lnTo>
                <a:arcTo wR="10014" hR="21600" stAng="-5483495" swAng="-5316505"/>
                <a:close/>
              </a:path>
              <a:path fill="darkenLess" w="21600" h="21600">
                <a:moveTo>
                  <a:pt x="0" y="21600"/>
                </a:moveTo>
                <a:arcTo wR="10014" hR="21600" stAng="10800000" swAng="5400000"/>
                <a:lnTo>
                  <a:pt x="10014" y="0"/>
                </a:lnTo>
                <a:arcTo wR="10014" hR="21600" stAng="-5400000" swAng="83495"/>
                <a:lnTo>
                  <a:pt x="10538" y="30"/>
                </a:lnTo>
                <a:arcTo wR="10014" hR="21600" stAng="-5483495" swAng="-5316505"/>
                <a:close/>
              </a:path>
            </a:pathLst>
          </a:custGeom>
          <a:solidFill>
            <a:srgbClr val="329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4176720" y="2627280"/>
            <a:ext cx="1800360" cy="727560"/>
          </a:xfrm>
          <a:prstGeom prst="rect">
            <a:avLst/>
          </a:prstGeom>
          <a:solidFill>
            <a:srgbClr val="a9d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T pers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6264360" y="3492360"/>
            <a:ext cx="2736720" cy="949320"/>
          </a:xfrm>
          <a:prstGeom prst="rect">
            <a:avLst/>
          </a:prstGeom>
          <a:solidFill>
            <a:srgbClr val="329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ST anomalies impact sea ice area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08000" y="5075280"/>
            <a:ext cx="2737080" cy="9493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ea ice thickness anomalies impact sea ice area 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4176720" y="6215040"/>
            <a:ext cx="1800360" cy="727560"/>
          </a:xfrm>
          <a:prstGeom prst="rect">
            <a:avLst/>
          </a:prstGeom>
          <a:solidFill>
            <a:srgbClr val="e18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 pers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Climate Dynam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576360" y="2124000"/>
            <a:ext cx="914400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EMO3.2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cean model +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LIM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ea ice model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Forcings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1958-2006 DFS4.3 or 1979-2013 ERA-interi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udging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 and S toward ORAS4, timescales = 360 days below 800m, and 10 days above except in the mixed layer, except at the equator (1°S-1°N), SST &amp; SSS restoring (-40W/m2, -150 mm/day/psu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nd perturbations + 5-member ORAS4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- - - &gt; 5 members for sea ice reco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792000" y="6300720"/>
            <a:ext cx="928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5 member sea ice reconstruction for 1958-present consistent with ocean and atmosphere states used for initial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2" descr="i00v_N_on_mean"/>
          <p:cNvPicPr/>
          <p:nvPr/>
        </p:nvPicPr>
        <p:blipFill>
          <a:blip r:embed="rId1"/>
          <a:srcRect l="0" t="0" r="0" b="21618"/>
          <a:stretch/>
        </p:blipFill>
        <p:spPr>
          <a:xfrm>
            <a:off x="139680" y="2771640"/>
            <a:ext cx="4970520" cy="300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3" descr="icesat_icethk_on"/>
          <p:cNvPicPr/>
          <p:nvPr/>
        </p:nvPicPr>
        <p:blipFill>
          <a:blip r:embed="rId2"/>
          <a:srcRect l="0" t="0" r="0" b="21618"/>
          <a:stretch/>
        </p:blipFill>
        <p:spPr>
          <a:xfrm>
            <a:off x="4968720" y="2789280"/>
            <a:ext cx="4969080" cy="30099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4"/>
          <p:cNvSpPr/>
          <p:nvPr/>
        </p:nvSpPr>
        <p:spPr>
          <a:xfrm>
            <a:off x="360360" y="2644920"/>
            <a:ext cx="439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5184720" y="2660760"/>
            <a:ext cx="439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ceS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792000" y="644364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oo much ice in central Arctic, too few in the Chukchi and East Siberian S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9" descr="icesat_icethk_on"/>
          <p:cNvPicPr/>
          <p:nvPr/>
        </p:nvPicPr>
        <p:blipFill>
          <a:blip r:embed="rId3"/>
          <a:srcRect l="0" t="79061" r="0" b="0"/>
          <a:stretch/>
        </p:blipFill>
        <p:spPr>
          <a:xfrm>
            <a:off x="792000" y="5356080"/>
            <a:ext cx="8496360" cy="1376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3-2007 October-November Arctic sea ice thic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4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Climate Dynam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arch and September Arctic sea 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6" descr="sia_b02s_b02t_3_9_N"/>
          <p:cNvPicPr/>
          <p:nvPr/>
        </p:nvPicPr>
        <p:blipFill>
          <a:blip r:embed="rId1"/>
          <a:stretch/>
        </p:blipFill>
        <p:spPr>
          <a:xfrm>
            <a:off x="144360" y="2819520"/>
            <a:ext cx="4967280" cy="3838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siv_b02s_b02t_3_9_N"/>
          <p:cNvPicPr/>
          <p:nvPr/>
        </p:nvPicPr>
        <p:blipFill>
          <a:blip r:embed="rId2"/>
          <a:stretch/>
        </p:blipFill>
        <p:spPr>
          <a:xfrm>
            <a:off x="5040360" y="2819520"/>
            <a:ext cx="4968720" cy="38401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8"/>
          <p:cNvSpPr/>
          <p:nvPr/>
        </p:nvSpPr>
        <p:spPr>
          <a:xfrm>
            <a:off x="287280" y="2556000"/>
            <a:ext cx="482436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 ice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5041800" y="2554200"/>
            <a:ext cx="496908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 ice vol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647640" y="5483160"/>
            <a:ext cx="252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FS4.3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1"/>
          <p:cNvSpPr/>
          <p:nvPr/>
        </p:nvSpPr>
        <p:spPr>
          <a:xfrm flipV="1">
            <a:off x="1368360" y="5266800"/>
            <a:ext cx="71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2448000" y="4356000"/>
            <a:ext cx="2449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RAint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3"/>
          <p:cNvSpPr/>
          <p:nvPr/>
        </p:nvSpPr>
        <p:spPr>
          <a:xfrm>
            <a:off x="4392720" y="476244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24"/>
          <p:cNvSpPr/>
          <p:nvPr/>
        </p:nvSpPr>
        <p:spPr>
          <a:xfrm>
            <a:off x="1655640" y="42591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3960720" y="3970440"/>
            <a:ext cx="863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6"/>
          <p:cNvSpPr/>
          <p:nvPr/>
        </p:nvSpPr>
        <p:spPr>
          <a:xfrm flipV="1">
            <a:off x="4103640" y="375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2232000" y="3035160"/>
            <a:ext cx="1368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dIS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8"/>
          <p:cNvSpPr/>
          <p:nvPr/>
        </p:nvSpPr>
        <p:spPr>
          <a:xfrm flipH="1">
            <a:off x="2016000" y="32511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3672000" y="3035160"/>
            <a:ext cx="108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SID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4319640" y="3394080"/>
            <a:ext cx="17928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720720" y="3827520"/>
            <a:ext cx="107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865080" y="3884760"/>
            <a:ext cx="2016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FS4.3 Fr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8497800" y="2987640"/>
            <a:ext cx="15829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RAint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34"/>
          <p:cNvSpPr/>
          <p:nvPr/>
        </p:nvSpPr>
        <p:spPr>
          <a:xfrm flipH="1">
            <a:off x="8928000" y="3706920"/>
            <a:ext cx="217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5688000" y="4427640"/>
            <a:ext cx="172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FS4.3 Fr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6"/>
          <p:cNvSpPr/>
          <p:nvPr/>
        </p:nvSpPr>
        <p:spPr>
          <a:xfrm>
            <a:off x="7345440" y="4643280"/>
            <a:ext cx="35856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6985080" y="3059280"/>
            <a:ext cx="863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8"/>
          <p:cNvSpPr/>
          <p:nvPr/>
        </p:nvSpPr>
        <p:spPr>
          <a:xfrm>
            <a:off x="7201080" y="34196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7489800" y="5554800"/>
            <a:ext cx="122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O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40"/>
          <p:cNvSpPr/>
          <p:nvPr/>
        </p:nvSpPr>
        <p:spPr>
          <a:xfrm>
            <a:off x="8640720" y="5770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41"/>
          <p:cNvSpPr/>
          <p:nvPr/>
        </p:nvSpPr>
        <p:spPr>
          <a:xfrm>
            <a:off x="5546880" y="3106800"/>
            <a:ext cx="1150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5616720" y="3130560"/>
            <a:ext cx="216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FS4.3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 flipH="1">
            <a:off x="5905080" y="385128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792000" y="644364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Bias but reasonable agreement in terms of interannual var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1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 rot="16200000">
            <a:off x="4082040" y="4294800"/>
            <a:ext cx="201636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usands km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35"/>
          <p:cNvSpPr/>
          <p:nvPr/>
        </p:nvSpPr>
        <p:spPr>
          <a:xfrm rot="16200000">
            <a:off x="-808920" y="4382280"/>
            <a:ext cx="2016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s km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Climate Dynam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CFUer</cp:lastModifiedBy>
  <cp:lastPrinted>2013-09-09T17:33:01Z</cp:lastPrinted>
  <dcterms:modified xsi:type="dcterms:W3CDTF">2014-12-03T14:15:14Z</dcterms:modified>
  <cp:revision>305</cp:revision>
  <dc:subject/>
  <dc:title>Diapositiva 1</dc:title>
</cp:coreProperties>
</file>